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6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D7068-BF1E-4FAD-811F-0C7DEA1ABF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35744-68C4-4A11-9D43-CBFEC2A45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8ACCF-5ADF-462A-81BB-31358D30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46BE6-1A30-453F-AB3D-B019F4E41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C72B4-3289-4BE6-94FE-F600B876E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257-A4B9-45ED-B9D5-DCBF4C84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8CE-5785-4AFD-85E9-6FCEF120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7AE-4494-4E6F-BB31-D876B319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7DC-19E6-4FD4-A090-61742E46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8435-94D7-4F4A-BC6D-17BFDE1C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86CE-8B3B-4C98-ADE7-131E44D7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8D54-6812-4B20-9C92-F5EB0F2E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DF35-DE55-4F75-AFD9-8E56B5FA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FD87-E1BB-4082-BDB6-A0072693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77FD-C2DA-4477-8E8C-CBE26180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86EA-1B43-4F74-B450-91BC7E57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D6E-6B47-4B94-B3CB-5AF88D28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D32D-C76C-46FB-9BB5-CC1D9E47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A932-BD3C-429D-BD8A-1BD3629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8C6A-7D08-4A6C-BF6F-2101E049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7D1B-66C1-49D7-9239-9C2E6D7D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531A-7F0B-425D-95CB-8500FB9F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E9033-EE3F-4308-83D5-ED79AD14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6BE7-AAC2-4038-8678-8F1E45B5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36884-8D95-4755-9B54-0994663A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B2CD-B911-4438-9D45-AD38181E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5BE0-56D0-4A31-A3ED-AC955CBD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018-3EE8-4D85-943F-E3BE9A5E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3FEE-58F5-4568-A665-FF4C9CF7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F9125-363B-4BF6-9CC0-6FD73B13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BC23-FCA7-42EB-987A-822474D4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3D2B6-A99A-441F-B7C1-49431162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D79D4-02EF-4EE5-8A80-8AD078A4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2BBF-F5E4-4539-BBE3-D0A6F3B9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03A7-CAFF-4180-AC93-B5829B44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06601-CCCD-4CAC-B4E2-4BC33BF4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E40B3-D3D5-4ABB-A69E-130BB3ED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77E17-D194-4198-8B3A-67F4D32A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644-1EBE-45EF-A5E0-3E4284D7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C57D0-6379-463D-AF86-9DB0D56D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A264-FE38-4E0B-B82E-C247B4A6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62818-4AB1-4918-8D06-C62B264A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878D2-1D41-4BC5-B768-54532440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8B0B-9D5C-465E-9A00-CA0B0E13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51D3E-587F-46D8-B4F0-8581B37C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46F97-2893-4DF2-BAF5-983EB894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7CBE-27B4-4228-8403-AF084C56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F2509-8A57-47AC-993E-369EAF16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C0776-15E2-4BB8-8805-2A1FBD85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33F-8BE7-4D86-AFA0-83C70C31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D7085-6DF6-4767-8DA9-DF48920C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086A4-FDBD-46D0-956B-35A2732B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34BBD-FAED-4F16-8F07-9E374948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C3CA2-953A-4791-92A8-E5EB99A5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536AD-22C0-4BDA-8964-D9A0A8F4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6418E-3534-4D4E-88E8-DE028B94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1A39E-47DE-4252-AA8D-3FF92FA8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90BB9-8BC0-425E-BDF8-E7710815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4B560-2EF4-431C-BE8B-ABCDFAB5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401B6-AE44-414D-8E10-61339DC7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289-C4F6-49F3-B375-C617F0A6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C6198-8283-4FA2-ABD6-58450BD4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858-65AD-4A6D-A4AC-AEC5A1A9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D75-E76E-4DD7-A7BE-5DF08B00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35C-4F9B-4785-88E6-750BBE79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D578F-5AF1-488E-B09B-EA9FF4ECCC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9CDCA-009D-41AF-B731-05EF2ABB8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FDE76-0082-49DC-BB6B-7A4DA94BE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B2A77-40CE-472C-B4D9-0A3B6F6AE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097D4-9A61-4EFF-81A0-DC58C230D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2A61E-DA99-4F16-A191-5D4D79546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0d0a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d0a10"/>
                </a:solidFill>
                <a:latin typeface="Calibri"/>
              </a:rPr>
              <a:t>The offspring of asexual reproduction ar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d0a10"/>
                </a:solidFill>
                <a:latin typeface="Calibri"/>
              </a:rPr>
              <a:t>Identical to the parent organism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d0a10"/>
                </a:solidFill>
                <a:latin typeface="Calibri"/>
              </a:rPr>
              <a:t>Similar to a parent organism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d0a10"/>
                </a:solidFill>
                <a:latin typeface="Calibri"/>
              </a:rPr>
              <a:t>A combination of two parent organisms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d0a10"/>
                </a:solidFill>
                <a:latin typeface="Calibri"/>
              </a:rPr>
              <a:t>Prokaryotic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7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700"/>
            </a:br>
            <a:br>
              <a:rPr sz="4700"/>
            </a:br>
            <a:r>
              <a:rPr b="1" lang="en-US" sz="4700" spc="-1" strike="noStrike" u="sng">
                <a:solidFill>
                  <a:srgbClr val="161616"/>
                </a:solidFill>
                <a:uFillTx/>
                <a:latin typeface="Calibri"/>
              </a:rPr>
              <a:t>Geneticists use letters to represent the different forms of a gene. </a:t>
            </a:r>
            <a:r>
              <a:rPr b="1" lang="en-US" sz="4700" spc="-1" strike="noStrike" u="sng">
                <a:solidFill>
                  <a:srgbClr val="161616"/>
                </a:solidFill>
                <a:uFillTx/>
                <a:latin typeface="Calibri"/>
              </a:rPr>
              <a:t>	</a:t>
            </a:r>
            <a:r>
              <a:rPr b="1" lang="en-US" sz="4700" spc="-1" strike="noStrike" u="sng">
                <a:solidFill>
                  <a:srgbClr val="161616"/>
                </a:solidFill>
                <a:uFillTx/>
                <a:latin typeface="Calibri"/>
              </a:rPr>
              <a:t>	</a:t>
            </a:r>
            <a:br>
              <a:rPr sz="4700"/>
            </a:br>
            <a:r>
              <a:rPr b="1" lang="en-US" sz="4700" spc="-1" strike="noStrike" u="sng">
                <a:solidFill>
                  <a:srgbClr val="161616"/>
                </a:solidFill>
                <a:uFillTx/>
                <a:latin typeface="Calibri"/>
              </a:rPr>
              <a:t>Dominant traits are represented by a capital letter</a:t>
            </a:r>
            <a:r>
              <a:rPr b="1" lang="en-US" sz="47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br>
              <a:rPr sz="4700"/>
            </a:b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161616"/>
                </a:solidFill>
                <a:latin typeface="Calibri"/>
              </a:rPr>
              <a:t>Yellow seeds are dominant……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8000" spc="-1" strike="noStrike">
                <a:solidFill>
                  <a:srgbClr val="ffff00"/>
                </a:solidFill>
                <a:latin typeface="Calibri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4" descr="j0344866"/>
          <p:cNvPicPr/>
          <p:nvPr/>
        </p:nvPicPr>
        <p:blipFill>
          <a:blip r:embed="rId1"/>
          <a:stretch/>
        </p:blipFill>
        <p:spPr>
          <a:xfrm rot="16624200">
            <a:off x="6043680" y="4628880"/>
            <a:ext cx="3178080" cy="8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0"/>
            </a:br>
            <a:br>
              <a:rPr sz="5000"/>
            </a:br>
            <a:r>
              <a:rPr b="1" lang="en-US" sz="5000" spc="-1" strike="noStrike" u="sng">
                <a:solidFill>
                  <a:srgbClr val="161616"/>
                </a:solidFill>
                <a:uFillTx/>
                <a:latin typeface="Calibri"/>
                <a:ea typeface="Times New Roman"/>
              </a:rPr>
              <a:t>Recessive genes (for the same trait) are represented by THE SAME lower case letter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Times New Roman"/>
              </a:rPr>
              <a:t>Green seeds are recessive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7200" spc="-1" strike="noStrike">
                <a:solidFill>
                  <a:srgbClr val="ffff00"/>
                </a:solidFill>
                <a:latin typeface="Calibri"/>
              </a:rPr>
              <a:t>y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Dominant (yellow) =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Recessive (green) =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6" descr="j0344866"/>
          <p:cNvPicPr/>
          <p:nvPr/>
        </p:nvPicPr>
        <p:blipFill>
          <a:blip r:embed="rId1"/>
          <a:stretch/>
        </p:blipFill>
        <p:spPr>
          <a:xfrm rot="16624200">
            <a:off x="5627160" y="4336200"/>
            <a:ext cx="3612960" cy="9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re dominant traits represented by capital letters or lower case letter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re recessive traits represented by capital letters or lower case letter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If purple petal color is dominant, will the symbol for purple color be P or p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04920" y="380520"/>
            <a:ext cx="4038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161616"/>
                </a:solidFill>
                <a:latin typeface="Calibri"/>
              </a:rPr>
              <a:t>In pea plants, tall is dominant over short.  The letter used to represent the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tall </a:t>
            </a:r>
            <a:r>
              <a:rPr b="0" lang="en-US" sz="4000" spc="-1" strike="noStrike">
                <a:solidFill>
                  <a:srgbClr val="161616"/>
                </a:solidFill>
                <a:latin typeface="Calibri"/>
              </a:rPr>
              <a:t>gene is 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61616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61616"/>
                </a:solidFill>
                <a:latin typeface="Calibri"/>
              </a:rPr>
              <a:t>The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shor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161616"/>
                </a:solidFill>
                <a:latin typeface="Calibri"/>
              </a:rPr>
              <a:t>gene is represented by 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495320" y="3429000"/>
            <a:ext cx="4343400" cy="281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Tall =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Short = 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j0309713"/>
          <p:cNvPicPr/>
          <p:nvPr/>
        </p:nvPicPr>
        <p:blipFill>
          <a:blip r:embed="rId1"/>
          <a:stretch/>
        </p:blipFill>
        <p:spPr>
          <a:xfrm>
            <a:off x="4876920" y="304920"/>
            <a:ext cx="320040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61616"/>
                </a:solidFill>
                <a:latin typeface="Calibri"/>
              </a:rPr>
              <a:t>In humans, brown eyes are dominant over blu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10" descr="j0236210"/>
          <p:cNvPicPr/>
          <p:nvPr/>
        </p:nvPicPr>
        <p:blipFill>
          <a:blip r:embed="rId1"/>
          <a:stretch/>
        </p:blipFill>
        <p:spPr>
          <a:xfrm>
            <a:off x="2362320" y="1828800"/>
            <a:ext cx="4332240" cy="15066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alibri"/>
              </a:rPr>
              <a:t>Brown = B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alibri"/>
              </a:rPr>
              <a:t>Blue = b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 u="sng">
                <a:solidFill>
                  <a:srgbClr val="161616"/>
                </a:solidFill>
                <a:uFillTx/>
                <a:latin typeface="Calibri"/>
              </a:rPr>
              <a:t>Dominant genes hide recessive genes when both are inherited by an organism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Y + y = yellow seeds 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(yellow is domin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T + t = tall plant  (tall is domin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B+ b = brown eyes (brown is domin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j0344866"/>
          <p:cNvPicPr/>
          <p:nvPr/>
        </p:nvPicPr>
        <p:blipFill>
          <a:blip r:embed="rId1"/>
          <a:stretch/>
        </p:blipFill>
        <p:spPr>
          <a:xfrm rot="17656800">
            <a:off x="4611600" y="2474640"/>
            <a:ext cx="2189160" cy="592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beanstalk"/>
          <p:cNvPicPr/>
          <p:nvPr/>
        </p:nvPicPr>
        <p:blipFill>
          <a:blip r:embed="rId2"/>
          <a:stretch/>
        </p:blipFill>
        <p:spPr>
          <a:xfrm>
            <a:off x="6553080" y="2438280"/>
            <a:ext cx="13478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447920"/>
            <a:ext cx="8534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2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If yellow seeds (Y) are dominant and green seeds (y) are recessive, and an organism has one Y gene and one y gene, what color seeds will the organism have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If you cross a green cobra with a yellow cobra, and there are 5 green baby cobras and 2 yellow baby cobras, which trait is domin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Yellow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Green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Yellow and green stri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Orange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700" spc="-1" strike="noStrike">
                <a:solidFill>
                  <a:srgbClr val="161616"/>
                </a:solidFill>
                <a:latin typeface="Calibri"/>
              </a:rPr>
              <a:t>If you cross a big viper with a medium viper, and all the baby vipers are medium size, which trait is recessive?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put (notes on gene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161616"/>
                </a:solidFill>
                <a:latin typeface="Calibri"/>
              </a:rPr>
              <a:t>If you cross a blue dragon and a red dragon, and you get 3 blue dragons and one red dragon which trait is recessiv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161616"/>
                </a:solidFill>
                <a:latin typeface="Calibri"/>
              </a:rPr>
              <a:t>If one parent has detached earlobes and the other parent has attached earlobes, and all of their children have detached earlobes, which trait is dominant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161616"/>
                </a:solidFill>
                <a:latin typeface="Calibri"/>
              </a:rPr>
              <a:t>If you cross a blue eyed dog with a brown eyed dog, and all the puppies have brown eyes, which trait is recessive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800" spc="-1" strike="noStrike">
                <a:solidFill>
                  <a:srgbClr val="161616"/>
                </a:solidFill>
                <a:latin typeface="Calibri"/>
              </a:rPr>
              <a:t>If a short tail is dominant, will the symbol for a short tail be  T or t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800" spc="-1" strike="noStrike">
                <a:solidFill>
                  <a:srgbClr val="161616"/>
                </a:solidFill>
                <a:latin typeface="Calibri"/>
              </a:rPr>
              <a:t>If small ears are recessive, will the symbol for small ears be  S or s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447920"/>
            <a:ext cx="8534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2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If brown hair (B) is dominant and red hair (b) is recessive, and an organism has one B gene and one b gene, what color hair will the organism have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3.6 Independent Practice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WBAT identify the effects of dominant and recessive traits in offspr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3.6 Genetics Class Not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Mendel</a:t>
            </a:r>
            <a:br>
              <a:rPr sz="4900"/>
            </a:br>
            <a:br>
              <a:rPr sz="4900"/>
            </a:br>
            <a:r>
              <a:rPr b="1" lang="en-US" sz="4900" spc="-1" strike="noStrike">
                <a:solidFill>
                  <a:srgbClr val="161616"/>
                </a:solidFill>
                <a:latin typeface="Calibri"/>
              </a:rPr>
              <a:t>-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900" spc="-1" strike="noStrike" u="sng">
                <a:solidFill>
                  <a:srgbClr val="0d0a10"/>
                </a:solidFill>
                <a:uFillTx/>
                <a:latin typeface="Calibri"/>
              </a:rPr>
              <a:t>Mendel discovered that traits are passed or inherited from one generation to the next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mendel w plant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027920" y="4336920"/>
            <a:ext cx="1658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 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d0a1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 u="sng">
                <a:solidFill>
                  <a:srgbClr val="0d0a10"/>
                </a:solidFill>
                <a:uFillTx/>
                <a:latin typeface="Calibri"/>
              </a:rPr>
              <a:t>Organisms inherit one gene for a trait from each parent.  As a result, an organism can have two different genes for the same trait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o is Mendel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an you have two different genes for the same trait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lang="en-US" sz="4500" spc="-1" strike="noStrike" u="sng">
                <a:solidFill>
                  <a:srgbClr val="161616"/>
                </a:solidFill>
                <a:uFillTx/>
                <a:latin typeface="Calibri"/>
              </a:rPr>
              <a:t>Some genes are dominant, </a:t>
            </a:r>
            <a:br>
              <a:rPr sz="4500"/>
            </a:br>
            <a:r>
              <a:rPr b="1" lang="en-US" sz="4500" spc="-1" strike="noStrike" u="sng">
                <a:solidFill>
                  <a:srgbClr val="161616"/>
                </a:solidFill>
                <a:uFillTx/>
                <a:latin typeface="Calibri"/>
              </a:rPr>
              <a:t>while others are recessive.</a:t>
            </a:r>
            <a:br>
              <a:rPr sz="4500"/>
            </a:br>
            <a:r>
              <a:rPr b="1" lang="en-US" sz="45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202212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161616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 u="sng">
                <a:solidFill>
                  <a:srgbClr val="161616"/>
                </a:solidFill>
                <a:uFillTx/>
                <a:latin typeface="Calibri"/>
              </a:rPr>
              <a:t>“</a:t>
            </a:r>
            <a:r>
              <a:rPr b="1" lang="en-US" sz="4900" spc="-1" strike="noStrike" u="sng">
                <a:solidFill>
                  <a:srgbClr val="161616"/>
                </a:solidFill>
                <a:uFillTx/>
                <a:latin typeface="Calibri"/>
              </a:rPr>
              <a:t>Stronger” traits are called dominant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161616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 u="sng">
                <a:solidFill>
                  <a:srgbClr val="161616"/>
                </a:solidFill>
                <a:uFillTx/>
                <a:latin typeface="Calibri"/>
              </a:rPr>
              <a:t>“</a:t>
            </a:r>
            <a:r>
              <a:rPr b="1" lang="en-US" sz="4900" spc="-1" strike="noStrike" u="sng">
                <a:solidFill>
                  <a:srgbClr val="161616"/>
                </a:solidFill>
                <a:uFillTx/>
                <a:latin typeface="Calibri"/>
              </a:rPr>
              <a:t>Weaker” traits are called recessiv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10" descr="j0078746"/>
          <p:cNvPicPr/>
          <p:nvPr/>
        </p:nvPicPr>
        <p:blipFill>
          <a:blip r:embed="rId1"/>
          <a:stretch/>
        </p:blipFill>
        <p:spPr>
          <a:xfrm>
            <a:off x="6080040" y="2971800"/>
            <a:ext cx="30639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is the difference between dominant and recessive trait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0:50Z</dcterms:created>
  <dc:creator>Caroline Roth</dc:creator>
  <dc:description/>
  <dc:language>en-US</dc:language>
  <cp:lastModifiedBy>Caroline Roth</cp:lastModifiedBy>
  <dcterms:modified xsi:type="dcterms:W3CDTF">2011-05-24T01:29:00Z</dcterms:modified>
  <cp:revision>3</cp:revision>
  <dc:subject/>
  <dc:title>Bellringer</dc:title>
</cp:coreProperties>
</file>